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0ABA-0EBB-4C3D-A05E-B9A72B9F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DEEE-767F-44BF-80B5-2EA330D0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7F4F-F0CB-43F9-B129-6D24C4FD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F9F9-C6DF-4837-B67F-EEC872AC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7CDF-849D-49B2-8C07-728463BB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1154-3D00-499C-91FD-F73B937E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C0E-F33E-4E00-A050-7D474544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B058-CDA8-40CC-BEC3-24641902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8ED1-0F3E-4F7D-97A6-3B26083C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3303-F297-4EF9-B401-679057FD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EF28-26D7-4986-8929-B7D9F42C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F4AE-4EDD-4E89-8B26-0602E3F7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BC78-DB6E-4E9E-A3C1-627AC2CA4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10439280" cy="687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99"/>
                </a:solidFill>
                <a:latin typeface="Berlin Sans FB Demi"/>
              </a:rPr>
              <a:t>Movem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666520" y="4343400"/>
            <a:ext cx="5334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Broadway"/>
              </a:rPr>
              <a:t>By:</a:t>
            </a:r>
            <a:r>
              <a:rPr b="0" lang="en-US" sz="4800" spc="-1" strike="noStrike">
                <a:solidFill>
                  <a:srgbClr val="cc66ff"/>
                </a:solidFill>
                <a:latin typeface="Broadway"/>
              </a:rPr>
              <a:t> </a:t>
            </a:r>
            <a:r>
              <a:rPr b="0" lang="en-US" sz="4800" spc="-1" strike="noStrike">
                <a:solidFill>
                  <a:srgbClr val="cc00ff"/>
                </a:solidFill>
                <a:latin typeface="Broadway"/>
              </a:rPr>
              <a:t>Alissa Tam</a:t>
            </a:r>
            <a:r>
              <a:rPr b="0" lang="en-US" sz="4800" spc="-1" strike="noStrike">
                <a:solidFill>
                  <a:srgbClr val="cc66ff"/>
                </a:solidFill>
                <a:latin typeface="Broadway"/>
              </a:rPr>
              <a:t> </a:t>
            </a:r>
            <a:r>
              <a:rPr b="0" lang="en-US" sz="4800" spc="-1" strike="noStrike">
                <a:solidFill>
                  <a:srgbClr val="ff3399"/>
                </a:solidFill>
                <a:latin typeface="Broadway"/>
              </a:rPr>
              <a:t>and</a:t>
            </a:r>
            <a:r>
              <a:rPr b="0" lang="en-US" sz="4800" spc="-1" strike="noStrike">
                <a:solidFill>
                  <a:srgbClr val="cc66ff"/>
                </a:solidFill>
                <a:latin typeface="Broadway"/>
              </a:rPr>
              <a:t> </a:t>
            </a:r>
            <a:r>
              <a:rPr b="0" lang="en-US" sz="4800" spc="-1" strike="noStrike">
                <a:solidFill>
                  <a:srgbClr val="66ff33"/>
                </a:solidFill>
                <a:latin typeface="Broadway"/>
              </a:rPr>
              <a:t>Bridget Durgin</a:t>
            </a: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auhaus 93"/>
              </a:rPr>
              <a:t>Water 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Font typeface="Goudy Stou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Goudy Stout"/>
              </a:rPr>
              <a:t>Many Russian rivers run from south to north making their use difficult during the win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Font typeface="Goudy Stou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Goudy Stout"/>
              </a:rPr>
              <a:t>Most ports are covered in snow and 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Font typeface="Goudy Stou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Goudy Stout"/>
              </a:rPr>
              <a:t>The traders must transport their goods another 200 miles to reach the nearest part of inland Russ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Matura MT Script Capitals"/>
              </a:rPr>
              <a:t>Port Citi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Russia has two important ports called Kaliningrad and St. Petersbur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Kaliningrad is located on a small island in the Baltic Se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It’s the only port that stays ice-free the whole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In the summer they have the choice of keeping their goods on the ships to travel 500 miles to St. Petersbur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vie"/>
              </a:rPr>
              <a:t>Railro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Railroad travel is the main transportation of Ru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In 1995 Russia had 154,000km of railroads but 26% of them were electrif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Railroad traffic dropped since the beginning of the Russian economic reform, making the economy b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Kristen ITC"/>
              </a:rPr>
              <a:t>Air 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Jokerman"/>
              </a:rPr>
              <a:t>The donation of air service of total travel has dropped to 12.5% by 199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Jokerman"/>
              </a:rPr>
              <a:t>The number of passengers flying was less then half the 1990 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Jokerman"/>
              </a:rPr>
              <a:t>They pay part of air fares and long distance flights between cities accounted for much of the air activity in the early 1990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blic 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viet citizens rely on public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six Russian cities have underground transportation, Moscow, St. Petersburg, Yekaterinburg, Nizhniy, Novgorod, Novosibirsk, and Sama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ot of vehicles require expensive repair and moder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5Z</dcterms:created>
  <dc:creator>Student</dc:creator>
  <dc:description/>
  <dc:language>en-US</dc:language>
  <cp:lastModifiedBy> </cp:lastModifiedBy>
  <dcterms:modified xsi:type="dcterms:W3CDTF">2010-12-20T15:42:09Z</dcterms:modified>
  <cp:revision>5</cp:revision>
  <dc:subject/>
  <dc:title>Movement</dc:title>
</cp:coreProperties>
</file>